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B56-E580-4175-94BC-D044101D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8EC-06AF-42AF-9B73-C82353DC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B6D-C700-4AEB-AF2B-56EF8665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282-702F-4B74-BC9B-DAAE533C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C2D-A533-400F-AEE0-ACC757CA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E31-60FE-4BCD-8223-C55BCEDE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EF2-F52E-4A00-AC3F-E8FC516A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D24-AE4B-48A3-9280-E8115FA2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C11-CF70-40DF-8BC1-FC4CD55A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DFA-8B2F-43C4-A6D8-A5F22C75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A0D-F3EF-4A45-AE88-DE1E2FAB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84A-9759-4175-92BF-E5B2B5E6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A1B8-1F93-4505-BD14-1606C860DE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"/>
          <p:cNvPicPr/>
          <p:nvPr/>
        </p:nvPicPr>
        <p:blipFill>
          <a:blip r:embed="rId1"/>
          <a:stretch/>
        </p:blipFill>
        <p:spPr>
          <a:xfrm>
            <a:off x="262080" y="3807000"/>
            <a:ext cx="21952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テキスト ボックス 3"/>
          <p:cNvSpPr/>
          <p:nvPr/>
        </p:nvSpPr>
        <p:spPr>
          <a:xfrm>
            <a:off x="138240" y="498600"/>
            <a:ext cx="1103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同封のマクロファイル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wExplodeStepView.swp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」を所定のフォルダに配置し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例＞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:\Program Files\macro\ExplodeStepView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138240" y="1301760"/>
            <a:ext cx="89136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マクロ導入手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１）ツールよりユーザー定義を選択　　ユーザー定義画面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２）ユーザー定義メニューのコマンドタブを選択、カテゴリの中から「マクロ」を選択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３）ボタンの中から「新規マクロボタン」を選択　マクロを登録したいコマンドマネージャーにドラッグ＆ドロップ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４）ユーザー定義マクロボタンに下記の情報を入力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マクロ　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:\Program Files\macro\ExplodeStepView\swExplodeStepView.sw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メソッド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plodeStepView.m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ツールボタン名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プロンプト　　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５）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力後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ボタンクリックでマクロの導入は完了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7"/>
          <p:cNvSpPr/>
          <p:nvPr/>
        </p:nvSpPr>
        <p:spPr>
          <a:xfrm>
            <a:off x="149400" y="3546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18"/>
          <p:cNvSpPr/>
          <p:nvPr/>
        </p:nvSpPr>
        <p:spPr>
          <a:xfrm>
            <a:off x="291636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２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9"/>
          <p:cNvSpPr/>
          <p:nvPr/>
        </p:nvSpPr>
        <p:spPr>
          <a:xfrm>
            <a:off x="526248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３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インストール方法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3119400" y="3776760"/>
            <a:ext cx="202428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294680" y="3701880"/>
            <a:ext cx="2727360" cy="25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4"/>
          <a:stretch/>
        </p:blipFill>
        <p:spPr>
          <a:xfrm>
            <a:off x="10248840" y="3727440"/>
            <a:ext cx="1581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"/>
          <p:cNvPicPr/>
          <p:nvPr/>
        </p:nvPicPr>
        <p:blipFill>
          <a:blip r:embed="rId5"/>
          <a:stretch/>
        </p:blipFill>
        <p:spPr>
          <a:xfrm>
            <a:off x="928800" y="4648320"/>
            <a:ext cx="1895400" cy="104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正方形/長方形 32"/>
          <p:cNvSpPr/>
          <p:nvPr/>
        </p:nvSpPr>
        <p:spPr>
          <a:xfrm>
            <a:off x="250920" y="3830760"/>
            <a:ext cx="587160" cy="311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33"/>
          <p:cNvSpPr/>
          <p:nvPr/>
        </p:nvSpPr>
        <p:spPr>
          <a:xfrm>
            <a:off x="1027080" y="5024520"/>
            <a:ext cx="1515960" cy="24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34"/>
          <p:cNvSpPr/>
          <p:nvPr/>
        </p:nvSpPr>
        <p:spPr>
          <a:xfrm>
            <a:off x="4087800" y="3967200"/>
            <a:ext cx="4935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35"/>
          <p:cNvSpPr/>
          <p:nvPr/>
        </p:nvSpPr>
        <p:spPr>
          <a:xfrm>
            <a:off x="3321000" y="6005520"/>
            <a:ext cx="1917720" cy="23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8" descr=""/>
          <p:cNvPicPr/>
          <p:nvPr/>
        </p:nvPicPr>
        <p:blipFill>
          <a:blip r:embed="rId6"/>
          <a:stretch/>
        </p:blipFill>
        <p:spPr>
          <a:xfrm>
            <a:off x="5418000" y="3759120"/>
            <a:ext cx="1667160" cy="7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正方形/長方形 38"/>
          <p:cNvSpPr/>
          <p:nvPr/>
        </p:nvSpPr>
        <p:spPr>
          <a:xfrm>
            <a:off x="6630840" y="3992400"/>
            <a:ext cx="397080" cy="33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9"/>
          <p:cNvSpPr/>
          <p:nvPr/>
        </p:nvSpPr>
        <p:spPr>
          <a:xfrm>
            <a:off x="716760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４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線吹き出し 2 (枠付き) 1"/>
          <p:cNvSpPr/>
          <p:nvPr/>
        </p:nvSpPr>
        <p:spPr>
          <a:xfrm flipH="1">
            <a:off x="5517360" y="5719680"/>
            <a:ext cx="2225880" cy="576360"/>
          </a:xfrm>
          <a:prstGeom prst="borderCallout2">
            <a:avLst>
              <a:gd name="adj1" fmla="val 18750"/>
              <a:gd name="adj2" fmla="val -8333"/>
              <a:gd name="adj3" fmla="val -3037"/>
              <a:gd name="adj4" fmla="val -44148"/>
              <a:gd name="adj5" fmla="val -235277"/>
              <a:gd name="adj6" fmla="val -8309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マクロは「・・・」ボタンにて選択し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016460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５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42"/>
          <p:cNvSpPr/>
          <p:nvPr/>
        </p:nvSpPr>
        <p:spPr>
          <a:xfrm>
            <a:off x="10172880" y="4030560"/>
            <a:ext cx="742680" cy="56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1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"/>
          <p:cNvSpPr/>
          <p:nvPr/>
        </p:nvSpPr>
        <p:spPr>
          <a:xfrm>
            <a:off x="79200" y="94464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分解ステップを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4280" y="1266840"/>
            <a:ext cx="25225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テキスト ボックス 3"/>
          <p:cNvSpPr/>
          <p:nvPr/>
        </p:nvSpPr>
        <p:spPr>
          <a:xfrm>
            <a:off x="160200" y="515880"/>
            <a:ext cx="56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選択しているモデルの分散ステップを表示する機能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本機能は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201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あった「分散ステップ表示」と同等の機能となり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46"/>
          <p:cNvSpPr/>
          <p:nvPr/>
        </p:nvSpPr>
        <p:spPr>
          <a:xfrm>
            <a:off x="1471680" y="1336680"/>
            <a:ext cx="587160" cy="506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"/>
          <p:cNvSpPr/>
          <p:nvPr/>
        </p:nvSpPr>
        <p:spPr>
          <a:xfrm>
            <a:off x="6072120" y="92880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複数のモデルを選択して実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0" descr=""/>
          <p:cNvPicPr/>
          <p:nvPr/>
        </p:nvPicPr>
        <p:blipFill>
          <a:blip r:embed="rId2"/>
          <a:stretch/>
        </p:blipFill>
        <p:spPr>
          <a:xfrm>
            <a:off x="8183520" y="1444680"/>
            <a:ext cx="251640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四角形吹き出し 28"/>
          <p:cNvSpPr/>
          <p:nvPr/>
        </p:nvSpPr>
        <p:spPr>
          <a:xfrm>
            <a:off x="9309240" y="1263600"/>
            <a:ext cx="1390680" cy="612720"/>
          </a:xfrm>
          <a:prstGeom prst="wedgeRectCallout">
            <a:avLst>
              <a:gd name="adj1" fmla="val -11990"/>
              <a:gd name="adj2" fmla="val 225699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別のモデルを選択（複数選択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1" descr=""/>
          <p:cNvPicPr/>
          <p:nvPr/>
        </p:nvPicPr>
        <p:blipFill>
          <a:blip r:embed="rId3"/>
          <a:stretch/>
        </p:blipFill>
        <p:spPr>
          <a:xfrm>
            <a:off x="7629480" y="4484520"/>
            <a:ext cx="2460600" cy="2213280"/>
          </a:xfrm>
          <a:prstGeom prst="rect">
            <a:avLst/>
          </a:prstGeom>
          <a:ln w="0">
            <a:noFill/>
          </a:ln>
        </p:spPr>
      </p:pic>
      <p:sp>
        <p:nvSpPr>
          <p:cNvPr id="71" name="四角形吹き出し 39"/>
          <p:cNvSpPr/>
          <p:nvPr/>
        </p:nvSpPr>
        <p:spPr>
          <a:xfrm>
            <a:off x="2662200" y="1461960"/>
            <a:ext cx="1373400" cy="406440"/>
          </a:xfrm>
          <a:prstGeom prst="wedgeRectCallout">
            <a:avLst>
              <a:gd name="adj1" fmla="val -89115"/>
              <a:gd name="adj2" fmla="val 8814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719440" y="4067280"/>
            <a:ext cx="267948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四角形吹き出し 38"/>
          <p:cNvSpPr/>
          <p:nvPr/>
        </p:nvSpPr>
        <p:spPr>
          <a:xfrm>
            <a:off x="3387600" y="3043080"/>
            <a:ext cx="2011320" cy="613080"/>
          </a:xfrm>
          <a:prstGeom prst="wedgeRectCallout">
            <a:avLst>
              <a:gd name="adj1" fmla="val -16564"/>
              <a:gd name="adj2" fmla="val 127277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4" descr=""/>
          <p:cNvPicPr/>
          <p:nvPr/>
        </p:nvPicPr>
        <p:blipFill>
          <a:blip r:embed="rId5"/>
          <a:stretch/>
        </p:blipFill>
        <p:spPr>
          <a:xfrm>
            <a:off x="1782720" y="3951360"/>
            <a:ext cx="120492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"/>
          <p:cNvPicPr/>
          <p:nvPr/>
        </p:nvPicPr>
        <p:blipFill>
          <a:blip r:embed="rId6"/>
          <a:stretch/>
        </p:blipFill>
        <p:spPr>
          <a:xfrm>
            <a:off x="6232680" y="4094280"/>
            <a:ext cx="1596960" cy="2090520"/>
          </a:xfrm>
          <a:prstGeom prst="rect">
            <a:avLst/>
          </a:prstGeom>
          <a:ln w="0">
            <a:noFill/>
          </a:ln>
        </p:spPr>
      </p:pic>
      <p:sp>
        <p:nvSpPr>
          <p:cNvPr id="76" name="四角形吹き出し 49"/>
          <p:cNvSpPr/>
          <p:nvPr/>
        </p:nvSpPr>
        <p:spPr>
          <a:xfrm>
            <a:off x="9936000" y="4978440"/>
            <a:ext cx="1791000" cy="612720"/>
          </a:xfrm>
          <a:prstGeom prst="wedgeRectCallout">
            <a:avLst>
              <a:gd name="adj1" fmla="val -63740"/>
              <a:gd name="adj2" fmla="val 12666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最後に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51"/>
          <p:cNvSpPr/>
          <p:nvPr/>
        </p:nvSpPr>
        <p:spPr>
          <a:xfrm>
            <a:off x="9628200" y="3011400"/>
            <a:ext cx="925560" cy="712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屈折矢印 6"/>
          <p:cNvSpPr/>
          <p:nvPr/>
        </p:nvSpPr>
        <p:spPr>
          <a:xfrm rot="5400000">
            <a:off x="898920" y="3796200"/>
            <a:ext cx="1015920" cy="878040"/>
          </a:xfrm>
          <a:custGeom>
            <a:avLst/>
            <a:gdLst/>
            <a:ahLst/>
            <a:rect l="l" t="t" r="r" b="b"/>
            <a:pathLst>
              <a:path w="1016000" h="877888">
                <a:moveTo>
                  <a:pt x="0" y="658416"/>
                </a:moveTo>
                <a:lnTo>
                  <a:pt x="686792" y="658416"/>
                </a:lnTo>
                <a:lnTo>
                  <a:pt x="686792" y="219472"/>
                </a:lnTo>
                <a:lnTo>
                  <a:pt x="577056" y="219472"/>
                </a:lnTo>
                <a:lnTo>
                  <a:pt x="796528" y="0"/>
                </a:lnTo>
                <a:lnTo>
                  <a:pt x="1016000" y="219472"/>
                </a:lnTo>
                <a:lnTo>
                  <a:pt x="906264" y="219472"/>
                </a:lnTo>
                <a:lnTo>
                  <a:pt x="906264" y="877888"/>
                </a:lnTo>
                <a:lnTo>
                  <a:pt x="0" y="877888"/>
                </a:lnTo>
                <a:lnTo>
                  <a:pt x="0" y="658416"/>
                </a:lnTo>
                <a:close/>
              </a:path>
            </a:pathLst>
          </a:cu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下矢印 7"/>
          <p:cNvSpPr/>
          <p:nvPr/>
        </p:nvSpPr>
        <p:spPr>
          <a:xfrm>
            <a:off x="8585280" y="3932280"/>
            <a:ext cx="102528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9" descr=""/>
          <p:cNvPicPr/>
          <p:nvPr/>
        </p:nvPicPr>
        <p:blipFill>
          <a:blip r:embed="rId7"/>
          <a:stretch/>
        </p:blipFill>
        <p:spPr>
          <a:xfrm>
            <a:off x="6391440" y="1303200"/>
            <a:ext cx="1896840" cy="14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四角形吹き出し 3"/>
          <p:cNvSpPr/>
          <p:nvPr/>
        </p:nvSpPr>
        <p:spPr>
          <a:xfrm>
            <a:off x="5708520" y="2111400"/>
            <a:ext cx="914400" cy="612720"/>
          </a:xfrm>
          <a:prstGeom prst="wedgeRectCallout">
            <a:avLst>
              <a:gd name="adj1" fmla="val 95990"/>
              <a:gd name="adj2" fmla="val -4072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50"/>
          <p:cNvSpPr/>
          <p:nvPr/>
        </p:nvSpPr>
        <p:spPr>
          <a:xfrm>
            <a:off x="7031160" y="1665360"/>
            <a:ext cx="753840" cy="752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009800" y="4976640"/>
            <a:ext cx="2689200" cy="984600"/>
          </a:xfrm>
          <a:prstGeom prst="rect">
            <a:avLst/>
          </a:prstGeom>
          <a:ln w="0">
            <a:noFill/>
          </a:ln>
        </p:spPr>
      </p:pic>
      <p:sp>
        <p:nvSpPr>
          <p:cNvPr id="85" name="テキスト ボックス 3"/>
          <p:cNvSpPr/>
          <p:nvPr/>
        </p:nvSpPr>
        <p:spPr>
          <a:xfrm>
            <a:off x="324000" y="657360"/>
            <a:ext cx="31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マクロ実行時に表示されるメッセー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808200" y="45864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選択したモデルに分解ステップが無い場合に表示され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009800" y="3259080"/>
            <a:ext cx="2689200" cy="984240"/>
          </a:xfrm>
          <a:prstGeom prst="rect">
            <a:avLst/>
          </a:prstGeom>
          <a:ln w="0">
            <a:noFill/>
          </a:ln>
        </p:spPr>
      </p:pic>
      <p:sp>
        <p:nvSpPr>
          <p:cNvPr id="88" name="テキスト ボックス 3"/>
          <p:cNvSpPr/>
          <p:nvPr/>
        </p:nvSpPr>
        <p:spPr>
          <a:xfrm>
            <a:off x="704880" y="2913120"/>
            <a:ext cx="72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モデルが選択されていない場合に表示されます。モデルを選択後、再度マクロを実行してください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3"/>
          <p:cNvSpPr/>
          <p:nvPr/>
        </p:nvSpPr>
        <p:spPr>
          <a:xfrm>
            <a:off x="639720" y="1068480"/>
            <a:ext cx="789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アセンブリファイルを開いていない場合に表示されます。アセンブリファイルを開いてから再度マクロを実行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1046160" y="1387440"/>
            <a:ext cx="26892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04:14:58Z</dcterms:created>
  <dc:creator>2204 三橋  健二 （ﾐﾂﾊｼ ｹﾝｼﾞ）</dc:creator>
  <dc:description/>
  <dc:language>en-US</dc:language>
  <cp:lastModifiedBy>河上 敦</cp:lastModifiedBy>
  <dcterms:modified xsi:type="dcterms:W3CDTF">2016-09-22T15:30:47Z</dcterms:modified>
  <cp:revision>35</cp:revision>
  <dc:subject/>
  <dc:title>PowerPoint プレゼンテーション</dc:title>
</cp:coreProperties>
</file>